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D33-3B17-43F0-808F-0C228D3B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C5E-36DB-457C-ACCD-A3B45103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2B4-71E7-401F-9FD9-914653F0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327-8AA5-4120-A8D0-9075889F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C69-439A-425F-8E3F-5E9B1BD3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338-A3B6-4E45-9EEE-0C180E60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3CD-C1BF-4030-8EAA-A023F667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996-9D8D-4DA6-9AEE-F6595C75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4EC-39D8-4C00-8FB9-645965A7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7FC-72DA-470D-931F-C1A95394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B25-3A8B-4183-951F-6BDE3A9A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DBE0-65E2-4543-AA26-BABF6B63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1774F-DB98-4EDE-A3D3-7E2FD09430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3BD86-8462-48B6-9FE3-86AB8E01F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tation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xmen.jpg"/>
          <p:cNvPicPr/>
          <p:nvPr/>
        </p:nvPicPr>
        <p:blipFill>
          <a:blip r:embed="rId1"/>
          <a:stretch/>
        </p:blipFill>
        <p:spPr>
          <a:xfrm>
            <a:off x="1371600" y="1960560"/>
            <a:ext cx="652464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lizard.jpg"/>
          <p:cNvPicPr/>
          <p:nvPr/>
        </p:nvPicPr>
        <p:blipFill>
          <a:blip r:embed="rId1"/>
          <a:stretch/>
        </p:blipFill>
        <p:spPr>
          <a:xfrm>
            <a:off x="129528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6" name="Right Arrow 4"/>
          <p:cNvSpPr/>
          <p:nvPr/>
        </p:nvSpPr>
        <p:spPr>
          <a:xfrm>
            <a:off x="3962520" y="5486400"/>
            <a:ext cx="1295280" cy="304920"/>
          </a:xfrm>
          <a:prstGeom prst="rightArrow">
            <a:avLst>
              <a:gd name="adj1" fmla="val 50000"/>
              <a:gd name="adj2" fmla="val 49972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A+six-foot+long+monitor+lizard+we+saw+just+swimming+from+one+island+to+another.+.jpg"/>
          <p:cNvPicPr/>
          <p:nvPr/>
        </p:nvPicPr>
        <p:blipFill>
          <a:blip r:embed="rId2"/>
          <a:stretch/>
        </p:blipFill>
        <p:spPr>
          <a:xfrm>
            <a:off x="5518080" y="4572000"/>
            <a:ext cx="2571840" cy="1928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96920" y="1752120"/>
            <a:ext cx="5060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qu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CGTTAG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6"/>
          <p:cNvSpPr/>
          <p:nvPr/>
        </p:nvSpPr>
        <p:spPr>
          <a:xfrm>
            <a:off x="3581280" y="2971800"/>
            <a:ext cx="6096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utated Seque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CATTAG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10"/>
          <p:cNvSpPr/>
          <p:nvPr/>
        </p:nvSpPr>
        <p:spPr>
          <a:xfrm rot="1840200">
            <a:off x="2157480" y="2819520"/>
            <a:ext cx="1447560" cy="304560"/>
          </a:xfrm>
          <a:prstGeom prst="rightArrow">
            <a:avLst>
              <a:gd name="adj1" fmla="val 50000"/>
              <a:gd name="adj2" fmla="val 5003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3558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96920" y="1752120"/>
            <a:ext cx="5060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qu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GGCCTATATT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tent Placeholder 6"/>
          <p:cNvSpPr/>
          <p:nvPr/>
        </p:nvSpPr>
        <p:spPr>
          <a:xfrm>
            <a:off x="3581280" y="2971800"/>
            <a:ext cx="6096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utated Seque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GTATATT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ight Arrow 10"/>
          <p:cNvSpPr/>
          <p:nvPr/>
        </p:nvSpPr>
        <p:spPr>
          <a:xfrm rot="1840200">
            <a:off x="2157480" y="2819520"/>
            <a:ext cx="1447560" cy="304560"/>
          </a:xfrm>
          <a:prstGeom prst="rightArrow">
            <a:avLst>
              <a:gd name="adj1" fmla="val 50000"/>
              <a:gd name="adj2" fmla="val 5003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3558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ing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kind of mutation is shown bel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ginal ----  CGATTTC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tated ---  CGATTC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d up: 1 finger for “point mutation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fingers for “insertion mutation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fingers for “deletion muta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ing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kind of mutation is shown bel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ginal ----   CTGGTAG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tated ---   CTGCTAG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d up: 1 finger for “point mutation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fingers for “insertion mutation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fingers for “deletion muta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 mutation is an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hange in the nucleotide sequence in a DNA molec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ther words, a mutation is a change in the genetic material of an organism.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he order of bases in our DNA (A, T, G, C) determines our traits… so if there is a change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u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ode will be altered and our traits can be altered as well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f the time, the mutation makes no difference in the life of an organism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How can mutations b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a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living thing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organisms function like machines. There are many parts of an organism that work together to keep the organism al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ould happen if you removed some of the parts of a c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. How can mutations b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goo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living thing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word =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varie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ety is important so that a population can survive in the face of a changing environment; mutations create varie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memb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Galapagos swimming liz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lizard.jpg"/>
          <p:cNvPicPr/>
          <p:nvPr/>
        </p:nvPicPr>
        <p:blipFill>
          <a:blip r:embed="rId1"/>
          <a:stretch/>
        </p:blipFill>
        <p:spPr>
          <a:xfrm>
            <a:off x="129528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3" name="Right Arrow 4"/>
          <p:cNvSpPr/>
          <p:nvPr/>
        </p:nvSpPr>
        <p:spPr>
          <a:xfrm>
            <a:off x="3962520" y="5486400"/>
            <a:ext cx="1295280" cy="304920"/>
          </a:xfrm>
          <a:prstGeom prst="rightArrow">
            <a:avLst>
              <a:gd name="adj1" fmla="val 50000"/>
              <a:gd name="adj2" fmla="val 49972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A+six-foot+long+monitor+lizard+we+saw+just+swimming+from+one+island+to+another.+.jpg"/>
          <p:cNvPicPr/>
          <p:nvPr/>
        </p:nvPicPr>
        <p:blipFill>
          <a:blip r:embed="rId2"/>
          <a:stretch/>
        </p:blipFill>
        <p:spPr>
          <a:xfrm>
            <a:off x="5518080" y="4572000"/>
            <a:ext cx="2571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Types of Mu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ser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when one or more bases are added to a DNA sequ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 TAGTAG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G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le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when on or more bases are removed (or “deleted”) from a DNA sequ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TAGTA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TA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)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int mut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when one or more bases is switched for an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TAGTA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6920" y="1752120"/>
            <a:ext cx="5060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).  Sequ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GATCCTGA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tent Placeholder 6"/>
          <p:cNvSpPr/>
          <p:nvPr/>
        </p:nvSpPr>
        <p:spPr>
          <a:xfrm>
            <a:off x="3276720" y="2862360"/>
            <a:ext cx="6095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utated Seque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TGATCCTG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Arrow 10"/>
          <p:cNvSpPr/>
          <p:nvPr/>
        </p:nvSpPr>
        <p:spPr>
          <a:xfrm rot="1840200">
            <a:off x="1852200" y="2709360"/>
            <a:ext cx="1447920" cy="304920"/>
          </a:xfrm>
          <a:prstGeom prst="right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3558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5:15:06Z</dcterms:created>
  <dc:creator>Eric Shannon</dc:creator>
  <dc:description/>
  <dc:language>en-US</dc:language>
  <cp:lastModifiedBy>Eric Shannon</cp:lastModifiedBy>
  <dcterms:modified xsi:type="dcterms:W3CDTF">2010-01-08T13:43:51Z</dcterms:modified>
  <cp:revision>18</cp:revision>
  <dc:subject/>
  <dc:title>Mutations</dc:title>
</cp:coreProperties>
</file>